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ADE-51F6-4F71-9214-11346A7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DCB-48F3-4ECD-B07C-ABC530C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1F3-2264-47AC-A72D-D7702AC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AD4-3C4E-4E61-96C1-BAA249C3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737-94E9-4463-92D7-F90F5CC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AA4-B488-4ABC-8817-1F08380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EAB-8C08-4E83-95C2-1A4405A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912-B40D-41E3-9BFF-68DC891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336-7B5E-4A87-90A2-0F792A0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2C2-34D3-47DB-BE8C-F5F064B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60D-ED4A-4E92-BB23-B785E57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9EF-6527-44AA-86E6-14F51E5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92B-35BB-482C-8D7D-D8E9A512B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4 Myslievam na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náš, nemeš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trvať silu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chod tvoj v nádeji čak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i nás vykú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hriechu oči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 s dôverou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lievam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keď zazni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í sa všemocný slávy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i blaže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y spase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ť ho budú 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esta Krist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byť vždy hot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ť Ženícha sláv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u sám pozdr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ju obda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unou život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9:16:31Z</dcterms:modified>
  <cp:revision>21</cp:revision>
  <dc:subject/>
  <dc:title>Je veľký náš Pán, on slávy je Kráľ Nech do všetkých strán  spev vrúcnych znie chvál.</dc:title>
</cp:coreProperties>
</file>